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797-A3FD-4657-A9BF-DA6B0B91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CE9-1769-4F3B-A017-4670754E8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696D-CE1B-4997-B266-9710523A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2CD-3EF0-405F-8DF4-42B9FBA05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F62-387F-43A1-AE88-8F85CF62B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726-FB49-4289-B932-61C67DEE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F92-035F-497F-A5C5-29680E83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382D-2243-492B-B3DA-00DC41F92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979-7B8B-4942-BFD5-BB9F5F3B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4F4E-0DAC-4354-851D-9B4249F6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641-E750-4D61-B125-FFFB1B9C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D546-F798-44AB-9D92-7385C743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79E-42C3-4E3F-B53E-2CFCD93B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5D00-2B78-4926-B45E-031C9101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D766-CA5E-4CA1-8331-80CE56F7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FB3F-EB35-4897-AB6F-A291EB59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5B9-F294-475A-A46A-8AE8701A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D917-34A2-47A6-A405-651AE5DF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F80-C16F-45CB-B76B-D34250FD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432-0AFD-46AB-BC0A-4F321BD6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BE9-52C6-4723-888D-681C74D7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9968-2F7F-4FFD-8026-CFE5A0D6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FC0-C754-477E-9D40-93E5E2EC4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797-C273-44EE-9841-BF56EBA8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11F-CEC2-4CD2-8183-C990E54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9D3-1B87-4EE2-A6AB-0B42F378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5D3-380D-4111-ADC5-854187B0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76C-A289-486D-ABB5-60C00026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22F-2930-4A9E-ACAC-E360F68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37D7-14C6-4F7B-8975-4A9643B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976B-6324-451F-9C40-0D24FEED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A144-9F01-4399-BED5-1E15829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0A5D-40DB-4991-B1A4-68252A6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B917-01FA-461C-9729-1B9C6307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E4E-106B-4E98-8F6D-8549435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1B5A-D4D6-4BF3-88A7-8054C19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298-E445-4CC8-9C98-3BFCCF0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4BE9-7E7E-406D-B76F-BE0F67A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8170-4515-4C75-B1AC-7EDAD557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6523-142F-40D8-A40A-88F64060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6717-E52D-4C8F-ADF9-DB02E332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113D-757A-4396-A416-CC1C63E9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73F9-3E24-4F4C-8A57-D7FE12D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2652-790B-44CF-AC80-8E9D176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00CE-3D25-4FCD-98E7-9F149A72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3CE-2820-47C2-90AE-0B8383E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0B26-E80D-405A-9385-0C6BDDDB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A77E-1DB7-4304-8EC9-F0D74A7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7F95-1092-47C2-895B-1BA2C70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E8FF-D2C0-4271-BA94-9AEC39B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DD2D-B4FD-42D0-A833-4276C62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E4D4-5769-4CFC-AF94-DCBBB6D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CC47-9529-4746-B8E9-FB0BF4ED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3F57-8747-4D42-984B-BE769F5B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1876-E344-4B53-81AA-50FE3AB3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4CDE-FF69-42C7-885F-FD67AA0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DA2-3E0C-4696-B17E-639E352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044D-014C-4C7A-9D43-54F3ED5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DD55-7332-407E-B840-0430FE42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7083-1361-4DAA-A496-B2487EF5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427A-89BE-43DB-A646-7F4BAF3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01D9-193F-4E2F-AA8F-825FEA72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B4BA-26B7-435C-9BD8-20A7770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C7D0-2F72-44BF-A2D3-99CFC92B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9C04-7B89-4BB4-980D-8153E007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5D02-46AF-4DF5-82C2-66B2310A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39B-96F0-410A-98F1-7D75E47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E4C-87F3-44F4-84F9-1662A921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4BD-736D-467A-A76E-D23CB1B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43-85CB-4185-ABA7-BFB5173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64F-0C3F-439D-B1A0-0EDFC91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C5A-F412-46F7-BE08-B807D0D8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108-728A-49BF-96B6-7E4FA0851DF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F071-F69A-425B-A4CF-18FA25CDE505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74F-FC80-4C71-A391-B4CEC035B68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pritchettcartoons.com/gif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82822"/>
                </a:solidFill>
                <a:latin typeface="Copperplate Gothic Bold"/>
              </a:rPr>
              <a:t>The Presidency on Tr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PresSealFlag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2793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5"/>
          <p:cNvSpPr/>
          <p:nvPr/>
        </p:nvSpPr>
        <p:spPr>
          <a:xfrm>
            <a:off x="762120" y="4800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910b"/>
                </a:solidFill>
                <a:latin typeface="Georgia"/>
              </a:rPr>
              <a:t>Assessing the Limits of Presidential Power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Limits on Presidential Power:  Informal Ch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scrap"/>
          <p:cNvPicPr/>
          <p:nvPr/>
        </p:nvPicPr>
        <p:blipFill>
          <a:blip r:embed="rId1"/>
          <a:stretch/>
        </p:blipFill>
        <p:spPr>
          <a:xfrm>
            <a:off x="1447920" y="2209680"/>
            <a:ext cx="6248160" cy="4165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2"/>
          <p:cNvSpPr/>
          <p:nvPr/>
        </p:nvSpPr>
        <p:spPr>
          <a:xfrm>
            <a:off x="4800600" y="3429000"/>
            <a:ext cx="411480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04920" y="1828800"/>
            <a:ext cx="403848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Tahoma"/>
              </a:rPr>
              <a:t>Interest Groups &amp; NGO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80880" y="4800600"/>
            <a:ext cx="38862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Organization of Women, Cindy Sheehan, and others protest the war in Iraq, April, 2006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724280" y="228600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Right to Life Committee and other pro-life interest groups spoke out against President Clinton’s veto of the ban on partial birth abortion, 1996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08" name="Picture 8" descr="scrap"/>
          <p:cNvPicPr/>
          <p:nvPr/>
        </p:nvPicPr>
        <p:blipFill>
          <a:blip r:embed="rId1"/>
          <a:stretch/>
        </p:blipFill>
        <p:spPr>
          <a:xfrm>
            <a:off x="4724280" y="3276720"/>
            <a:ext cx="3962520" cy="270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9" name="Picture 9" descr="scrap"/>
          <p:cNvPicPr/>
          <p:nvPr/>
        </p:nvPicPr>
        <p:blipFill>
          <a:blip r:embed="rId2"/>
          <a:stretch/>
        </p:blipFill>
        <p:spPr>
          <a:xfrm>
            <a:off x="228600" y="2057400"/>
            <a:ext cx="388620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6"/>
          <p:cNvSpPr/>
          <p:nvPr/>
        </p:nvSpPr>
        <p:spPr>
          <a:xfrm>
            <a:off x="1143000" y="5334120"/>
            <a:ext cx="1371600" cy="129528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114800" y="4191120"/>
            <a:ext cx="3276720" cy="213336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800600" y="1600200"/>
            <a:ext cx="2133720" cy="190512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04920" y="1447920"/>
            <a:ext cx="3200400" cy="228600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b400"/>
                </a:solidFill>
                <a:latin typeface="Baskerville Semibold"/>
                <a:ea typeface="ＭＳ Ｐゴシック"/>
              </a:rPr>
              <a:t>Congressional Investigation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5" name="Picture 5" descr="scrap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220968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228600" y="3962520"/>
            <a:ext cx="3657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Oliver North testifies before Congress at the Iran-Contra hearings during the Reagan administration (1987)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7" name="Picture 7" descr="scrap"/>
          <p:cNvPicPr/>
          <p:nvPr/>
        </p:nvPicPr>
        <p:blipFill>
          <a:blip r:embed="rId2"/>
          <a:stretch/>
        </p:blipFill>
        <p:spPr>
          <a:xfrm>
            <a:off x="4648320" y="1828800"/>
            <a:ext cx="2057400" cy="178920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18" name="Rectangle 8"/>
          <p:cNvSpPr/>
          <p:nvPr/>
        </p:nvSpPr>
        <p:spPr>
          <a:xfrm>
            <a:off x="6934320" y="1600200"/>
            <a:ext cx="1752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enate Banking Committee begins its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investigative hearings on the Whitewater 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candal during the Clinton administration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(1994)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9" name="Picture 9" descr="scrap"/>
          <p:cNvPicPr/>
          <p:nvPr/>
        </p:nvPicPr>
        <p:blipFill>
          <a:blip r:embed="rId3"/>
          <a:stretch/>
        </p:blipFill>
        <p:spPr>
          <a:xfrm>
            <a:off x="3962520" y="4114800"/>
            <a:ext cx="3200400" cy="203040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20" name="Rectangle 10"/>
          <p:cNvSpPr/>
          <p:nvPr/>
        </p:nvSpPr>
        <p:spPr>
          <a:xfrm>
            <a:off x="7391520" y="4572000"/>
            <a:ext cx="16002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Former FEMA director Michael Brown testifies before the House Select Committee on Hurricane Katrina, Sept., 2002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21" name="Picture 15" descr="MCj03080910000[1]"/>
          <p:cNvPicPr/>
          <p:nvPr/>
        </p:nvPicPr>
        <p:blipFill>
          <a:blip r:embed="rId4"/>
          <a:stretch/>
        </p:blipFill>
        <p:spPr>
          <a:xfrm>
            <a:off x="1295280" y="5562720"/>
            <a:ext cx="990720" cy="83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43240" y="6854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tle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"Bill Clinton's Christmas present from the U.S. House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untitled"/>
          <p:cNvPicPr/>
          <p:nvPr/>
        </p:nvPicPr>
        <p:blipFill>
          <a:blip r:embed="rId1"/>
          <a:stretch/>
        </p:blipFill>
        <p:spPr>
          <a:xfrm>
            <a:off x="380880" y="457200"/>
            <a:ext cx="5483520" cy="5943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9920" y="5105520"/>
            <a:ext cx="26668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rtist: John Pritchett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e:  unknown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pritchettcartoons.com/gift.htm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2"/>
          <p:cNvSpPr/>
          <p:nvPr/>
        </p:nvSpPr>
        <p:spPr>
          <a:xfrm>
            <a:off x="5029200" y="2057400"/>
            <a:ext cx="3048120" cy="2514600"/>
          </a:xfrm>
          <a:prstGeom prst="rect">
            <a:avLst/>
          </a:prstGeom>
          <a:solidFill>
            <a:srgbClr val="e10000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105520" y="1981080"/>
            <a:ext cx="3047760" cy="2438640"/>
          </a:xfrm>
          <a:prstGeom prst="rect">
            <a:avLst/>
          </a:prstGeom>
          <a:solidFill>
            <a:srgbClr val="1a05b5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838080" y="2057400"/>
            <a:ext cx="3276720" cy="2514600"/>
          </a:xfrm>
          <a:prstGeom prst="rect">
            <a:avLst/>
          </a:prstGeom>
          <a:solidFill>
            <a:srgbClr val="1a05b5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762120" y="1981080"/>
            <a:ext cx="3276360" cy="2438640"/>
          </a:xfrm>
          <a:prstGeom prst="rect">
            <a:avLst/>
          </a:prstGeom>
          <a:solidFill>
            <a:srgbClr val="e10000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rtisan</a:t>
            </a:r>
            <a:r>
              <a:rPr b="1" lang="en-US" sz="4400" spc="-1" strike="noStrike">
                <a:solidFill>
                  <a:srgbClr val="ba04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1a05b5"/>
                </a:solidFill>
                <a:latin typeface="Verdana"/>
              </a:rPr>
              <a:t>Politics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38080" y="45720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Howard Dean, Chairman of the Democratic National Committee and vigorous critic of the Bush administration, May, 2005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952880" y="4572000"/>
            <a:ext cx="34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peaker of the House Newt Gingrich (R) battles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President Bill Clinton (D) over the nationa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budget resulting in the shutdown of the federal    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government in 199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2" name="Picture 7" descr="scrap"/>
          <p:cNvPicPr/>
          <p:nvPr/>
        </p:nvPicPr>
        <p:blipFill>
          <a:blip r:embed="rId1"/>
          <a:stretch/>
        </p:blipFill>
        <p:spPr>
          <a:xfrm>
            <a:off x="5105520" y="2057400"/>
            <a:ext cx="2971800" cy="2374920"/>
          </a:xfrm>
          <a:prstGeom prst="rect">
            <a:avLst/>
          </a:prstGeom>
          <a:ln w="38160">
            <a:solidFill>
              <a:srgbClr val="f8f4ec"/>
            </a:solidFill>
            <a:miter/>
          </a:ln>
        </p:spPr>
      </p:pic>
      <p:pic>
        <p:nvPicPr>
          <p:cNvPr id="233" name="Picture 8" descr="scrap"/>
          <p:cNvPicPr/>
          <p:nvPr/>
        </p:nvPicPr>
        <p:blipFill>
          <a:blip r:embed="rId2"/>
          <a:stretch/>
        </p:blipFill>
        <p:spPr>
          <a:xfrm>
            <a:off x="838080" y="2057400"/>
            <a:ext cx="3200400" cy="2400480"/>
          </a:xfrm>
          <a:prstGeom prst="rect">
            <a:avLst/>
          </a:prstGeom>
          <a:ln w="38160">
            <a:solidFill>
              <a:srgbClr val="f8f4ec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7"/>
          <p:cNvSpPr/>
          <p:nvPr/>
        </p:nvSpPr>
        <p:spPr>
          <a:xfrm>
            <a:off x="6019920" y="4343400"/>
            <a:ext cx="2819160" cy="22096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6019920" y="1600200"/>
            <a:ext cx="2666880" cy="24382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733920" y="2438280"/>
            <a:ext cx="1981080" cy="2590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457200" y="4114800"/>
            <a:ext cx="2895480" cy="22860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304920" y="1600200"/>
            <a:ext cx="312408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Courier New"/>
              </a:rPr>
              <a:t>The Med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7" descr="scrap"/>
          <p:cNvPicPr/>
          <p:nvPr/>
        </p:nvPicPr>
        <p:blipFill>
          <a:blip r:embed="rId1"/>
          <a:stretch/>
        </p:blipFill>
        <p:spPr>
          <a:xfrm>
            <a:off x="533520" y="4191120"/>
            <a:ext cx="2743200" cy="213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Picture 8" descr="scrap"/>
          <p:cNvPicPr/>
          <p:nvPr/>
        </p:nvPicPr>
        <p:blipFill>
          <a:blip r:embed="rId2"/>
          <a:stretch/>
        </p:blipFill>
        <p:spPr>
          <a:xfrm>
            <a:off x="6095880" y="4419720"/>
            <a:ext cx="26672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2" name="Picture 9" descr="scrap"/>
          <p:cNvPicPr/>
          <p:nvPr/>
        </p:nvPicPr>
        <p:blipFill>
          <a:blip r:embed="rId3"/>
          <a:stretch/>
        </p:blipFill>
        <p:spPr>
          <a:xfrm>
            <a:off x="380880" y="1676520"/>
            <a:ext cx="2971800" cy="199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Picture 10" descr="scrap"/>
          <p:cNvPicPr/>
          <p:nvPr/>
        </p:nvPicPr>
        <p:blipFill>
          <a:blip r:embed="rId4"/>
          <a:stretch/>
        </p:blipFill>
        <p:spPr>
          <a:xfrm>
            <a:off x="3809880" y="2514600"/>
            <a:ext cx="181296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4" name="Picture 11" descr="scrap"/>
          <p:cNvPicPr/>
          <p:nvPr/>
        </p:nvPicPr>
        <p:blipFill>
          <a:blip r:embed="rId5"/>
          <a:stretch/>
        </p:blipFill>
        <p:spPr>
          <a:xfrm>
            <a:off x="6095880" y="1676520"/>
            <a:ext cx="25146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8" descr="MCj02343480000[1]"/>
          <p:cNvPicPr/>
          <p:nvPr/>
        </p:nvPicPr>
        <p:blipFill>
          <a:blip r:embed="rId6"/>
          <a:stretch/>
        </p:blipFill>
        <p:spPr>
          <a:xfrm>
            <a:off x="0" y="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MCj03962400000[1]"/>
          <p:cNvPicPr/>
          <p:nvPr/>
        </p:nvPicPr>
        <p:blipFill>
          <a:blip r:embed="rId7"/>
          <a:stretch/>
        </p:blipFill>
        <p:spPr>
          <a:xfrm>
            <a:off x="8332920" y="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j0285750"/>
          <p:cNvPicPr/>
          <p:nvPr/>
        </p:nvPicPr>
        <p:blipFill>
          <a:blip r:embed="rId8"/>
          <a:stretch/>
        </p:blipFill>
        <p:spPr>
          <a:xfrm>
            <a:off x="4038480" y="5889600"/>
            <a:ext cx="1295640" cy="9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Kristen ITC"/>
              </a:rPr>
              <a:t>Public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LBJ"/>
          <p:cNvPicPr/>
          <p:nvPr/>
        </p:nvPicPr>
        <p:blipFill>
          <a:blip r:embed="rId1"/>
          <a:stretch/>
        </p:blipFill>
        <p:spPr>
          <a:xfrm>
            <a:off x="914400" y="2057400"/>
            <a:ext cx="3048120" cy="230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0" name="Text Box 7"/>
          <p:cNvSpPr/>
          <p:nvPr/>
        </p:nvSpPr>
        <p:spPr>
          <a:xfrm>
            <a:off x="838080" y="44197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 a televised address in March, 1968, President Johnson announced he would not seek the Democratic nomination for president due to sagging public support for his administration and the war in Vietnam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51" name="Picture 8" descr="scrap"/>
          <p:cNvPicPr/>
          <p:nvPr/>
        </p:nvPicPr>
        <p:blipFill>
          <a:blip r:embed="rId2"/>
          <a:stretch/>
        </p:blipFill>
        <p:spPr>
          <a:xfrm>
            <a:off x="4876920" y="2057400"/>
            <a:ext cx="3124080" cy="2386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Rectangle 10"/>
          <p:cNvSpPr/>
          <p:nvPr/>
        </p:nvSpPr>
        <p:spPr>
          <a:xfrm>
            <a:off x="4651560" y="4495680"/>
            <a:ext cx="36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hough he enjoyed record public support during the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rsian Gulf War, President George H. W. Bush saw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s numbers dip dramatically in the polls and he lost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s re-election bid to democrat Bill Clinton in 1992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838080" y="457200"/>
            <a:ext cx="762120" cy="609480"/>
          </a:xfrm>
          <a:prstGeom prst="wedgeRectCallout">
            <a:avLst>
              <a:gd name="adj1" fmla="val -40625"/>
              <a:gd name="adj2" fmla="val 159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7467480" y="457200"/>
            <a:ext cx="762120" cy="609480"/>
          </a:xfrm>
          <a:prstGeom prst="wedgeRectCallout">
            <a:avLst>
              <a:gd name="adj1" fmla="val -42500"/>
              <a:gd name="adj2" fmla="val 142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AutoShape 17"/>
          <p:cNvSpPr/>
          <p:nvPr/>
        </p:nvSpPr>
        <p:spPr>
          <a:xfrm>
            <a:off x="2743200" y="5638680"/>
            <a:ext cx="914400" cy="762120"/>
          </a:xfrm>
          <a:prstGeom prst="wedgeEllipseCallout">
            <a:avLst>
              <a:gd name="adj1" fmla="val -78472"/>
              <a:gd name="adj2" fmla="val -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5334120" y="5715000"/>
            <a:ext cx="914400" cy="609480"/>
          </a:xfrm>
          <a:prstGeom prst="wedgeRoundRectCallout">
            <a:avLst>
              <a:gd name="adj1" fmla="val 97745"/>
              <a:gd name="adj2" fmla="val -45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254"/>
            </a:gs>
            <a:gs pos="50000">
              <a:srgbClr val="1a05b5"/>
            </a:gs>
            <a:gs pos="100000">
              <a:srgbClr val="0c02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2057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Baskerville Semibold"/>
              </a:rPr>
              <a:t>"Just so you know, we're ashamed     the President of the United States        is from Texas."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~Natalie Maines, lead singer of the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Dixie Chick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at a concert in London (March 10, 2003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4" descr="scrap"/>
          <p:cNvPicPr/>
          <p:nvPr/>
        </p:nvPicPr>
        <p:blipFill>
          <a:blip r:embed="rId1"/>
          <a:stretch/>
        </p:blipFill>
        <p:spPr>
          <a:xfrm>
            <a:off x="685800" y="3200400"/>
            <a:ext cx="3581280" cy="268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scrap"/>
          <p:cNvPicPr/>
          <p:nvPr/>
        </p:nvPicPr>
        <p:blipFill>
          <a:blip r:embed="rId2"/>
          <a:stretch/>
        </p:blipFill>
        <p:spPr>
          <a:xfrm>
            <a:off x="4876920" y="3200400"/>
            <a:ext cx="3886200" cy="2644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914400" y="58672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Dixie Chicks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 in concert, 2003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876920" y="58672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President Bush delivering the State of the Union Address, 2003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ccff66"/>
                </a:solidFill>
                <a:latin typeface="Rockwell Extra Bold"/>
              </a:rPr>
              <a:t>Not Ready to Make Nice</a:t>
            </a:r>
            <a:br>
              <a:rPr sz="2800"/>
            </a:br>
            <a:r>
              <a:rPr b="1" lang="en-US" sz="1400" spc="-1" strike="noStrike">
                <a:solidFill>
                  <a:srgbClr val="ccff66"/>
                </a:solidFill>
                <a:latin typeface="Rockwell Extra Bold"/>
              </a:rPr>
              <a:t>Recorded by the Dixie Chicks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114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ive, sound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et, I'm not sure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y say time heals everyth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I'm still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through, with doub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's nothing left for me to figure o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ve paid a price, and I'll keep p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make n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back d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still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don't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go round and round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too late to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probably wouldn't if I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use I'm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't bring myself to do 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ou think I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114800" y="106668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533520"/>
            <a:ext cx="419076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know you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y can't you just get over 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turned my whole world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kind of lik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made my bed, and I sleep like a ba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th no regrets and I don't mind say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a sad sad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a mother will teach her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380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she ought to hate a perfect str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how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 the words that I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nd somebody so over the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they'd write me a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ying that I better shut up and 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r my life will b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4267080" y="304920"/>
            <a:ext cx="0" cy="624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838080" y="251460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0c11"/>
                </a:solidFill>
                <a:latin typeface="Copperplate Gothic Bold"/>
              </a:rPr>
              <a:t>Formal Checks on     </a:t>
            </a:r>
            <a:endParaRPr b="0" lang="en-US" sz="4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0c11"/>
                </a:solidFill>
                <a:latin typeface="Copperplate Gothic Bold"/>
              </a:rPr>
              <a:t>Presidential Power</a:t>
            </a:r>
            <a:endParaRPr b="0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5049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ke n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back d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still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don't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go round and round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00240" y="990720"/>
            <a:ext cx="350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too late to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probably wouldn't if I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use I'm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't bring myself to do 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ou think I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Rep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343400" y="53352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1"/>
          <p:cNvSpPr/>
          <p:nvPr/>
        </p:nvSpPr>
        <p:spPr>
          <a:xfrm>
            <a:off x="1066680" y="3657600"/>
            <a:ext cx="6934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617220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ive, sound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et, I'm not sure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y say time heals everyth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I'm still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untitled"/>
          <p:cNvPicPr/>
          <p:nvPr/>
        </p:nvPicPr>
        <p:blipFill>
          <a:blip r:embed="rId1"/>
          <a:stretch/>
        </p:blipFill>
        <p:spPr>
          <a:xfrm>
            <a:off x="1143000" y="3733920"/>
            <a:ext cx="6781680" cy="2290680"/>
          </a:xfrm>
          <a:prstGeom prst="rect">
            <a:avLst/>
          </a:prstGeom>
          <a:ln w="0">
            <a:noFill/>
          </a:ln>
        </p:spPr>
      </p:pic>
      <p:sp>
        <p:nvSpPr>
          <p:cNvPr id="278" name="Line 8"/>
          <p:cNvSpPr/>
          <p:nvPr/>
        </p:nvSpPr>
        <p:spPr>
          <a:xfrm>
            <a:off x="990720" y="65530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143000" y="29718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cff66"/>
                </a:solidFill>
                <a:latin typeface="Rockwell Extra Bold"/>
              </a:rPr>
              <a:t>The Dixie Chicks &amp; George W. Bush</a:t>
            </a:r>
            <a:br>
              <a:rPr sz="3200"/>
            </a:br>
            <a:br>
              <a:rPr sz="2400"/>
            </a:br>
            <a:r>
              <a:rPr b="1" lang="en-US" sz="3200" spc="-1" strike="noStrike">
                <a:solidFill>
                  <a:srgbClr val="ffff99"/>
                </a:solidFill>
                <a:latin typeface="Baskerville Semibold"/>
              </a:rPr>
              <a:t>Questions for Discuss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your opinion, did the Dixie Chicks have a right to criticize the president in a time of wa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country music stations and fans have a right to boycott Dixie Chicks’ music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does this song, as well as other actions taken by entertainers and the media, serve as a check on presidential power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gressional Checks on the President</a:t>
            </a:r>
            <a:br>
              <a:rPr sz="3600"/>
            </a:br>
            <a:r>
              <a:rPr b="1" lang="en-US" sz="3200" spc="-1" strike="noStrike">
                <a:solidFill>
                  <a:srgbClr val="000066"/>
                </a:solidFill>
                <a:latin typeface="Copperplate Gothic Bold"/>
              </a:rPr>
              <a:t>(Article 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Make laws (ex: War Powers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Override presidential ve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ower to declar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ower of the purse (taxes and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Regulation of the land and nav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gressional Checks (cont.)</a:t>
            </a:r>
            <a:endParaRPr b="0" lang="en-US" sz="3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1447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Impeachment Power (Hous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Impeachment Trial (Senat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81" name="Picture 9" descr="untitled"/>
          <p:cNvPicPr/>
          <p:nvPr/>
        </p:nvPicPr>
        <p:blipFill>
          <a:blip r:embed="rId2"/>
          <a:stretch/>
        </p:blipFill>
        <p:spPr>
          <a:xfrm>
            <a:off x="2057400" y="2971800"/>
            <a:ext cx="5029200" cy="3360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2590920" y="60199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MS Pゴシック"/>
              </a:rPr>
              <a:t>President Clinton’s impeachment trial, January, 1999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Limits on Presidential Power (Article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resident elected indirectly by the people through the Electoral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Selection of president (House) in case of no majority of electoral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resident must deliver State of the Union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Senate approves treaties and ambassa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Limits on Presidential Power (Article II)</a:t>
            </a:r>
            <a:endParaRPr b="0" lang="en-US" sz="3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Senate approves department appoint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Copperplate Gothic Light"/>
              </a:rPr>
              <a:t>“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Advice and consent</a:t>
            </a:r>
            <a:r>
              <a:rPr b="1" lang="en-US" sz="3200" spc="-1" strike="noStrike">
                <a:solidFill>
                  <a:srgbClr val="470c11"/>
                </a:solidFill>
                <a:latin typeface="Copperplate Gothic Light"/>
              </a:rPr>
              <a:t>”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of federal judge appointments (Senat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89" name="Picture 6" descr="scrap"/>
          <p:cNvPicPr/>
          <p:nvPr/>
        </p:nvPicPr>
        <p:blipFill>
          <a:blip r:embed="rId1"/>
          <a:stretch/>
        </p:blipFill>
        <p:spPr>
          <a:xfrm>
            <a:off x="5029200" y="3352680"/>
            <a:ext cx="3276720" cy="2133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0" name="Picture 7" descr="scrap"/>
          <p:cNvPicPr/>
          <p:nvPr/>
        </p:nvPicPr>
        <p:blipFill>
          <a:blip r:embed="rId2"/>
          <a:stretch/>
        </p:blipFill>
        <p:spPr>
          <a:xfrm>
            <a:off x="990720" y="3352680"/>
            <a:ext cx="3227400" cy="21542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91" name="Text Box 8"/>
          <p:cNvSpPr/>
          <p:nvPr/>
        </p:nvSpPr>
        <p:spPr>
          <a:xfrm>
            <a:off x="914400" y="55627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Secretary of State Condoleezza Rice testifies at her Senate Foreign Relations Committee confirmation hearing, January, 2005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952880" y="556272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Nominee for Chief Justice, John Roberts is sworn in at his Senate Judiciary committee confirmation hearing, September, 2005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66"/>
                </a:solidFill>
                <a:latin typeface="Georgia"/>
                <a:ea typeface="MS Pゴシック"/>
              </a:rPr>
              <a:t>Judicial Checks on the Presid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194" name="Picture 5" descr="scrap"/>
          <p:cNvPicPr/>
          <p:nvPr/>
        </p:nvPicPr>
        <p:blipFill>
          <a:blip r:embed="rId1"/>
          <a:stretch/>
        </p:blipFill>
        <p:spPr>
          <a:xfrm>
            <a:off x="685800" y="1828800"/>
            <a:ext cx="3505320" cy="3798720"/>
          </a:xfrm>
          <a:prstGeom prst="rect">
            <a:avLst/>
          </a:prstGeom>
          <a:ln w="57240">
            <a:solidFill>
              <a:srgbClr val="777777"/>
            </a:solidFill>
            <a:miter/>
          </a:ln>
        </p:spPr>
      </p:pic>
      <p:sp>
        <p:nvSpPr>
          <p:cNvPr id="195" name="Rectangle 6"/>
          <p:cNvSpPr/>
          <p:nvPr/>
        </p:nvSpPr>
        <p:spPr>
          <a:xfrm>
            <a:off x="411480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Judicial review (</a:t>
            </a:r>
            <a:r>
              <a:rPr b="1" i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Marbury v. Madison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) Acts of the President Constitutional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Chief Justice presides over presidential impeachment trial (Article I)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stitutional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Choosing president &amp; vice-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president on separate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term limits (2 terms; 10 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 years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disability and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tle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“The Madness of King George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400" y="617220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rtist: Drew Sheneman,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The Newark Star Ledger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e:  December, 2005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Times New Roman"/>
              </a:rPr>
              <a:t>http://www.cagle.com/news/DomesticSpying/1.asp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00" name="Picture 5" descr="scrap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517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3:14:36Z</dcterms:created>
  <dc:creator>Nikki Lewis</dc:creator>
  <dc:description/>
  <dc:language>en-US</dc:language>
  <cp:lastModifiedBy>hberndt</cp:lastModifiedBy>
  <dcterms:modified xsi:type="dcterms:W3CDTF">2010-04-29T19:56:05Z</dcterms:modified>
  <cp:revision>143</cp:revision>
  <dc:subject/>
  <dc:title>Presidential Powers</dc:title>
</cp:coreProperties>
</file>